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2F31-B8CD-4678-BAC6-A7DB19857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95B3-71E2-4ACD-8BDE-286EEACA9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11AE-C954-4BAE-94EE-222B070EF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6849-54C2-447A-8320-6AE37EE1B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6E43-611C-4BB5-9845-B89E4E842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E4DC-55A7-437E-8B56-6C5EC112A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2A73-73FF-424A-9055-6A6A4E947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E6A2-78A9-4FA0-B1D3-8DB7DC3D4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78F2-3DB1-4EAF-AA4D-F6D1E39AE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BF50-FE3E-4144-963B-B24239A3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526C-D778-4AD9-ACD3-21AE65B1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D022-5D72-4E4A-9185-2C641B15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8F0DA-0FD5-439C-BA32-3DC9B5B5D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280" y="476280"/>
            <a:ext cx="5148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How many of you am I expected to see in Year 1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635280" y="399960"/>
            <a:ext cx="597852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03280" y="476280"/>
            <a:ext cx="8029440" cy="374652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6120" indent="-27612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The current Year 12 has 50 pupils studying maths in three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6120" indent="-27612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20% come from other 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6120" indent="-27612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The rest came from the 2 top sets of GSCE maths in this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6120" indent="-27612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A typical size for a top set GCSE maths class is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2920" y="4473720"/>
            <a:ext cx="8316720" cy="155628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many of you will I be teaching in Year 12 assuming all trends, class sizes and number of sets remain the sam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4T22:03:32Z</dcterms:created>
  <dc:creator>Trifon</dc:creator>
  <dc:description/>
  <dc:language>en-US</dc:language>
  <cp:lastModifiedBy>Trifon</cp:lastModifiedBy>
  <dcterms:modified xsi:type="dcterms:W3CDTF">2003-11-15T09:24:17Z</dcterms:modified>
  <cp:revision>4</cp:revision>
  <dc:subject/>
  <dc:title>Slide 1</dc:title>
</cp:coreProperties>
</file>